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F69-3499-4854-B2C9-C543100C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10F-8B3F-463C-8F71-5DBB894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6F8-9CF6-436A-8984-4A6479C4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716-1EFD-40A9-B7AE-5002349B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D812-1648-4981-862B-2A0C360A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8EF8-2FAD-459C-B7D0-A176F0C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5039-1B7A-47F0-9817-EF37C00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2E8-F60D-4AB1-AAC4-58B277B8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E06D-8DD2-4D7E-8EFD-65A52F7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EF15-9BE2-4636-BFDF-78FD7449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A47A-C162-4867-9F1D-D3351246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EE7-084F-472A-8CD6-E43D586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E40-7A7B-4A1C-B7A7-045FA61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DAD1-947E-4336-8CCA-609F379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309C-E6FD-49C8-9360-9E87FFE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4968-10D0-446E-9F1B-2CD57BF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9E1-F649-4ED0-A28B-F02D10A9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6551-AF31-412A-AC42-AEA7B35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0A06-CD2C-4743-B33D-A3FBF130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3009-8726-4263-8259-5F3727F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BE9F-F0BC-470B-82AE-663E8174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8234-B26E-443C-AAE8-B6932C7F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FF1-671D-4149-8E34-04945B1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9C01-A023-4A0F-9E25-69566D99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BC66-5223-4D01-8455-A64AE08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7AC9-5A77-4C45-88EF-044AE74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1D04-7CF0-40B6-AF3A-768C29C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E653-03F4-4AF0-98C0-69C20AB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8BEF-2B10-4BA9-AC3C-66E5F1AF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4F62-6C51-4AD1-A950-83217F62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8FD3-5D94-4225-BD93-ABB56668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5C0C-1E9B-4927-A238-BB75065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50DB-AD6B-449D-9E87-1A4A3323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C12-095E-44A7-8AB2-60CA12B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C977-D25C-4EE5-A7B3-49AE103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9255-06AD-4013-9E66-3FD2CF3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55C3-5982-493B-8063-AAF9338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9D33-F79C-461E-B2E4-6A4BBCE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4B4F-4A69-44E0-B482-914B280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8116-9FF5-42D5-A0B9-3470B14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851F-E6DD-482C-BFA1-BD154435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CBA8-A284-4B96-924B-18C55376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ABDB-FAB1-497B-A7D5-0025D1D8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CE2E-956F-4DDE-AE47-7001A613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E9A-2AF5-4847-A58D-0C418F3C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E9E3-D6D8-4341-9A42-AD088E3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532D-3E08-4234-BA5B-0BCF4EF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766B-F42F-4C6B-B080-2F8F2410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901D-0ACD-462A-8C39-ADC5A40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5AFE-1C58-42E3-93D8-EE443E3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D3223-7B0D-42C7-B118-D7A48D5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FC4C-B025-4FB7-BD9D-400A1E6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6B5E-DD47-428D-A3C3-869F336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D6C8-BFBB-496F-B559-326B7BC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A1C7-2494-4D42-85AC-570FB408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B97-3B73-451A-B2B4-76A4D19C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9BFD-4254-4EF2-B05C-AD927E5B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6992-4661-4CF9-8421-1A734F5F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0677-F173-4437-94AF-B4B908E5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14C2-2EC1-4A37-B2B0-732D4821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715E-4C34-41CF-8A1A-3367C97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EFD7-3E1F-432A-B11A-FCC75108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D5DCB-684D-42AF-A6C0-D0FA104A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B4BF-FE47-4D07-BC67-2845914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251C-AAC1-4829-8C6C-D16BAAF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22A1-9904-4E7C-AE89-AA0BA3E0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6AB-3DFA-4AF4-8C26-E85DA13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ED93-0CE0-4EB8-85B8-EBF5FD2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BADB-9878-4686-B829-9C47A16E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F6B0-8BF3-4529-94F3-2A1C335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5138-4ACF-47CE-A4F4-77B63EB2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47C9-84BE-4C82-ADD6-B68A62C8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964D-DA95-49A5-85F3-67E10BD2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4EE2-EC74-402E-87E8-E578BF3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26BB-47E4-404A-BD6F-7D1A076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416D-2772-4AA3-B7B0-E28F2C3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3E94-C700-43F8-983F-BBF4CF72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27A-B997-438D-A01E-CCAAFB8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9AC4-1A9D-4ED9-83F8-B7D062D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404B-396D-4E43-85B3-F467C65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C864-5CCC-433C-A590-B08B2E0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5D2B-493F-4C98-8175-91BE341B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0547-8B99-4BF3-AC4E-1C1A8E7B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725-22B3-4799-A8D8-490D9CC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70A3-DC8A-4108-AF79-A6EC38154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E23E-B994-41E5-9165-2DB80475A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EEB-2E7A-4354-8958-BAD36791C9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0B9E-567F-4E3A-9518-6E71FD825D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FEB-543E-4CDA-8C91-99819D63F7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0DDD-377D-4751-84C1-67FEC0479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071-E882-4FCD-80FC-B70A3431C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5645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effects of the Great Depression on the American people in the 1930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http://www.autolife.umd.umich.edu/Design/Gartman/D_Casestudy/ID74271_2_depression_apples.gif"/>
          <p:cNvPicPr/>
          <p:nvPr/>
        </p:nvPicPr>
        <p:blipFill>
          <a:blip r:embed="rId2"/>
          <a:stretch/>
        </p:blipFill>
        <p:spPr>
          <a:xfrm>
            <a:off x="2133720" y="657360"/>
            <a:ext cx="5008320" cy="40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http://1.bp.blogspot.com/_t85Xg4Dg49I/SOJ1bJeMzNI/AAAAAAAAA8k/dhpeDyAiv5Q/s400/Headline%20Crash1.jpg"/>
          <p:cNvPicPr/>
          <p:nvPr/>
        </p:nvPicPr>
        <p:blipFill>
          <a:blip r:embed="rId3"/>
          <a:stretch/>
        </p:blipFill>
        <p:spPr>
          <a:xfrm rot="20909400">
            <a:off x="163440" y="2127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http://www.historicalnews.com/ebay/2012-11-28/Nov2012X28SA19393.jpg"/>
          <p:cNvPicPr/>
          <p:nvPr/>
        </p:nvPicPr>
        <p:blipFill>
          <a:blip r:embed="rId4"/>
          <a:stretch/>
        </p:blipFill>
        <p:spPr>
          <a:xfrm rot="851400">
            <a:off x="6013440" y="6480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www.csa.com/discoveryguides/refugee/images/dustbowl.gif"/>
          <p:cNvPicPr/>
          <p:nvPr/>
        </p:nvPicPr>
        <p:blipFill>
          <a:blip r:embed="rId1"/>
          <a:stretch/>
        </p:blipFill>
        <p:spPr>
          <a:xfrm>
            <a:off x="609480" y="685800"/>
            <a:ext cx="7994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weru.ksu.edu/new_weru/multimedia/dustbowl/big/theb1365.jpg"/>
          <p:cNvPicPr/>
          <p:nvPr/>
        </p:nvPicPr>
        <p:blipFill>
          <a:blip r:embed="rId1"/>
          <a:stretch/>
        </p:blipFill>
        <p:spPr>
          <a:xfrm>
            <a:off x="152280" y="457200"/>
            <a:ext cx="885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1.bp.blogspot.com/_pZO0lOEj1oo/Spwsw6AXWpI/AAAAAAAACcg/bgahCrFLN4k/s400/dust+bowl.jpg"/>
          <p:cNvPicPr/>
          <p:nvPr/>
        </p:nvPicPr>
        <p:blipFill>
          <a:blip r:embed="rId1"/>
          <a:stretch/>
        </p:blipFill>
        <p:spPr>
          <a:xfrm>
            <a:off x="111240" y="533520"/>
            <a:ext cx="888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upload.wikimedia.org/wikipedia/commons/5/5f/Dust_Bowl_Oklahoma.jpg"/>
          <p:cNvPicPr/>
          <p:nvPr/>
        </p:nvPicPr>
        <p:blipFill>
          <a:blip r:embed="rId1"/>
          <a:stretch/>
        </p:blipFill>
        <p:spPr>
          <a:xfrm>
            <a:off x="1447920" y="76320"/>
            <a:ext cx="639288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774800"/>
            <a:ext cx="3886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hotographed migrant families during the Depress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9" name="Picture 2" descr="http://www.lightmediation.net/blog/wp-content/myfotos/lange/00000059082.jpg"/>
          <p:cNvPicPr/>
          <p:nvPr/>
        </p:nvPicPr>
        <p:blipFill>
          <a:blip r:embed="rId2"/>
          <a:stretch/>
        </p:blipFill>
        <p:spPr>
          <a:xfrm>
            <a:off x="4172040" y="1523880"/>
            <a:ext cx="481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ile:Lange-MigrantMother02.jpg"/>
          <p:cNvPicPr/>
          <p:nvPr/>
        </p:nvPicPr>
        <p:blipFill>
          <a:blip r:embed="rId1"/>
          <a:stretch/>
        </p:blipFill>
        <p:spPr>
          <a:xfrm>
            <a:off x="1981080" y="76320"/>
            <a:ext cx="5153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2.bp.blogspot.com/-1wtUfz7uEwQ/TkRgyzEnGlI/AAAAAAAAAFs/PBUWP20-wg8/s1600/great-depression+homeless+4.jpg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://media-cache-ec0.pinimg.com/736x/93/df/32/93df32cd6185b36fac8ed35f5ca756da.jpg"/>
          <p:cNvPicPr/>
          <p:nvPr/>
        </p:nvPicPr>
        <p:blipFill>
          <a:blip r:embed="rId1"/>
          <a:stretch/>
        </p:blipFill>
        <p:spPr>
          <a:xfrm>
            <a:off x="1371600" y="46080"/>
            <a:ext cx="65912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4.bp.blogspot.com/-dljX2q-bGg0/TtYvvOm_bHI/AAAAAAAAO8A/JMlmDLtGANI/s640/dorothea+lange+depression+era+photographs+21.jpg"/>
          <p:cNvPicPr/>
          <p:nvPr/>
        </p:nvPicPr>
        <p:blipFill>
          <a:blip r:embed="rId1"/>
          <a:stretch/>
        </p:blipFill>
        <p:spPr>
          <a:xfrm>
            <a:off x="1371600" y="122400"/>
            <a:ext cx="64263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152640" y="1447560"/>
            <a:ext cx="4576680" cy="540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siness Failures: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1929-32--85,000 closed their doors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er capita income (a year)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68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49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ekly income of a typical worker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4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16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6" name="Picture 5" descr="http://img.bhs4.com/60/c/60c53b028a93dbc3ef6c39cbae0021fc3d40d0f6_large.jpg"/>
          <p:cNvPicPr/>
          <p:nvPr/>
        </p:nvPicPr>
        <p:blipFill>
          <a:blip r:embed="rId2"/>
          <a:stretch/>
        </p:blipFill>
        <p:spPr>
          <a:xfrm>
            <a:off x="4419720" y="17524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47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Unemployment reached 25%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ousands of men left home looking for wor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Picture 5" descr="http://www.doctorhousingbubble.com/wp-content/uploads/2008/05/gdunemployment.gif"/>
          <p:cNvPicPr/>
          <p:nvPr/>
        </p:nvPicPr>
        <p:blipFill>
          <a:blip r:embed="rId2"/>
          <a:stretch/>
        </p:blipFill>
        <p:spPr>
          <a:xfrm>
            <a:off x="388800" y="2654280"/>
            <a:ext cx="8374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-76320" y="1447920"/>
            <a:ext cx="40687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st bank closures occurred in agricultural areas because farmers experienced such poor condition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550 banks went out of business from July 1, 1928, to June 30, 192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m 1929-32 - 9,000 fai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,000,000 accounts wiped out fore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9" name="Picture 6" descr="http://www.doctorhousingbubble.com/wp-content/uploads/2008/07/american_union_bank.gif"/>
          <p:cNvPicPr/>
          <p:nvPr/>
        </p:nvPicPr>
        <p:blipFill>
          <a:blip r:embed="rId2"/>
          <a:stretch/>
        </p:blipFill>
        <p:spPr>
          <a:xfrm>
            <a:off x="3962520" y="1887480"/>
            <a:ext cx="51354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://www.wfu.edu/history/StudentWork/whistory/timeline/namerica/unemployed.jpg"/>
          <p:cNvPicPr/>
          <p:nvPr/>
        </p:nvPicPr>
        <p:blipFill>
          <a:blip r:embed="rId1"/>
          <a:stretch/>
        </p:blipFill>
        <p:spPr>
          <a:xfrm>
            <a:off x="142920" y="304920"/>
            <a:ext cx="88488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1960" y="1733040"/>
            <a:ext cx="3406680" cy="520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Widespread hunger took over the countr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read lines are created where people can get hand-outs of fo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3" name="Picture 5" descr="http://2.bp.blogspot.com/-wljlwtZTTFU/UFuqDVmMvQI/AAAAAAAAc9M/8Ntvtx3cG2M/s1600/hunger+america.png"/>
          <p:cNvPicPr/>
          <p:nvPr/>
        </p:nvPicPr>
        <p:blipFill>
          <a:blip r:embed="rId2"/>
          <a:stretch/>
        </p:blipFill>
        <p:spPr>
          <a:xfrm>
            <a:off x="3352680" y="1790640"/>
            <a:ext cx="5686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2.bp.blogspot.com/_xRraVcfa3GM/SZRG-Kp7e2I/AAAAAAAABxk/Yx1rlaZDSvU/s400/2008-07-15_4_GreatDepression-Blacks-SoupLine.jpg"/>
          <p:cNvPicPr/>
          <p:nvPr/>
        </p:nvPicPr>
        <p:blipFill>
          <a:blip r:embed="rId1"/>
          <a:stretch/>
        </p:blipFill>
        <p:spPr>
          <a:xfrm>
            <a:off x="228600" y="152280"/>
            <a:ext cx="86947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upload.wikimedia.org/wikipedia/commons/thumb/e/e3/US_Unemployment_1890-2011.gif/383px-US_Unemployment_1890-2011.gif"/>
          <p:cNvPicPr/>
          <p:nvPr/>
        </p:nvPicPr>
        <p:blipFill>
          <a:blip r:embed="rId1"/>
          <a:stretch/>
        </p:blipFill>
        <p:spPr>
          <a:xfrm>
            <a:off x="90360" y="1143000"/>
            <a:ext cx="8901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epression-unemployment"/>
          <p:cNvPicPr/>
          <p:nvPr/>
        </p:nvPicPr>
        <p:blipFill>
          <a:blip r:embed="rId1"/>
          <a:stretch/>
        </p:blipFill>
        <p:spPr>
          <a:xfrm>
            <a:off x="76320" y="76320"/>
            <a:ext cx="6319800" cy="5029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america20xy.com/blog6/wp-content/uploads/2011/06/2_great_depression.jpg"/>
          <p:cNvPicPr/>
          <p:nvPr/>
        </p:nvPicPr>
        <p:blipFill>
          <a:blip r:embed="rId2"/>
          <a:stretch/>
        </p:blipFill>
        <p:spPr>
          <a:xfrm>
            <a:off x="3794040" y="2819520"/>
            <a:ext cx="5197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13716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oughly one and a half million were left homeles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included families and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overvilles = makeshift houses that people made of whatever materials they could g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2362320" y="3452760"/>
            <a:ext cx="4419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://media-cache-ak0.pinimg.com/736x/1a/2e/03/1a2e033f47f61ae6e37d4236345e0955.jpg"/>
          <p:cNvPicPr/>
          <p:nvPr/>
        </p:nvPicPr>
        <p:blipFill>
          <a:blip r:embed="rId1"/>
          <a:stretch/>
        </p:blipFill>
        <p:spPr>
          <a:xfrm>
            <a:off x="152280" y="76320"/>
            <a:ext cx="88124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nuttyhistory.com/uploads/1/2/1/5/12150034/8974008_orig.jpg?1"/>
          <p:cNvPicPr/>
          <p:nvPr/>
        </p:nvPicPr>
        <p:blipFill>
          <a:blip r:embed="rId1"/>
          <a:stretch/>
        </p:blipFill>
        <p:spPr>
          <a:xfrm>
            <a:off x="76320" y="514440"/>
            <a:ext cx="90169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truthalyzer.com/wp-content/themes/tent-city1.jpg"/>
          <p:cNvPicPr/>
          <p:nvPr/>
        </p:nvPicPr>
        <p:blipFill>
          <a:blip r:embed="rId1"/>
          <a:stretch/>
        </p:blipFill>
        <p:spPr>
          <a:xfrm>
            <a:off x="52560" y="609480"/>
            <a:ext cx="890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-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st Bow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ffected the Great Plai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; Drought struc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ust st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ny moved west to California but remained homeless and po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ohn Steinbec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merican auth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ote about the troubles of farmers in his book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he Grapes of Wra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 rot="599400">
            <a:off x="5627160" y="1752120"/>
            <a:ext cx="30229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17:38Z</dcterms:created>
  <dc:creator>LATHOMPS</dc:creator>
  <dc:description/>
  <dc:language>en-US</dc:language>
  <cp:lastModifiedBy>Vickie J. Dean</cp:lastModifiedBy>
  <dcterms:modified xsi:type="dcterms:W3CDTF">2016-03-08T13:22:02Z</dcterms:modified>
  <cp:revision>8</cp:revision>
  <dc:subject/>
  <dc:title>Great Depression in America</dc:title>
</cp:coreProperties>
</file>